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86B-AAE4-4A3C-A69D-CAEB7DE0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F75-3BEF-4AAB-AF8A-B0A4815F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B4E3B-D8A0-4A9B-8E79-37D6770F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61CC2-B275-453A-A14B-E800A649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0C8D9-D3E2-44E9-86AB-44A88AC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B3A29-04F5-4F96-BC3F-2D838E7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DE605-B596-412B-8E41-590A391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1955C-B3B7-471B-ADBE-CF0BB96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27538-8053-4B37-BE5F-AB22DF94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F65FC-78D5-4EA6-81BD-597311AD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657CD-662A-4A30-B952-CC941B1B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57173-AE88-43BD-B742-48363E93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DCB-2678-4DE7-8124-51E200BD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4C95A-3EF4-47AF-B591-467965E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5E3F5-AB4F-456A-B5A3-8E8AA27B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A84FE-8350-40B2-AAC1-BDCDCD54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6095F-807D-4F6E-AD6B-66066629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DFFD-2EA5-41AD-AEE7-4D03E338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DA563-2381-41E0-A9B3-AED6206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DA91C-F1FB-422A-B06C-6AEBC61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7BFF5-34C6-46A0-88FA-A4ECF97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87613-5CF5-488A-A6D0-F374DC25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52382-C475-42E0-8408-12333D2B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513-131D-45E5-99A2-74C0695D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A37E6-26AB-478F-8CDC-02A2BDF2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50E34-0B74-4B7D-AE38-A11D44B5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F4A11-AF9D-4AF9-8B2A-B5086DB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3276E-A5BE-4A28-8DCB-EE3A70DB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442E6-BBFB-41A7-97F7-23F79A9B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7711D-76BA-4313-8AA3-B244EAD8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F9D03-A775-4765-9095-0825F1A4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BA433-12F5-4C2F-8CC9-A2824F9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DE9B3-737D-43A8-BC8C-E27C5597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2744B-B9E8-42B1-987C-BE97A24F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6871-8031-4F7E-9B74-11BCCB74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9598B-6346-4239-BE5F-0B7332AD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34936-D5EC-474F-BC1A-34BF5E7E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AFEDC-9D52-486A-8E8E-034F47D6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826E7-A36B-4196-9A28-F2514A07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B6084-F355-494C-B015-E3613B9E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FD88C-D251-487E-B0B4-085E10EB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35CBC-AE59-4A29-A97F-9427EB7A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C8C63-F0FB-409C-AD28-3BAC1354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C5AFE-A101-4B0D-A671-6667D7AF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573E4-A1B5-465E-A78E-A296619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CD63-6E36-410B-B071-652C63B3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0A246-19EA-4523-96C3-DD311BE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1FB28-9B32-4B10-BF2A-EC50125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238CA-EB12-49E3-8DEF-3AC8D08A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D08A1-E2E7-4CC3-8FF6-EE087BA3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D22E5-70AE-4425-A52B-6B835CE3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B428E-6F5F-4447-8803-B6F80504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1BF64-C062-47B8-8F1B-FBED5F44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6E83C-099B-4238-BEDD-CAE23B0A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94F67-8BBC-4EDF-9BCE-9D9EF061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B7778-D92F-4083-805B-9BD139D5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5330-C992-4DBC-A1A0-411D3F16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2348D-C217-4B97-90A4-6ED3C365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58D6F-56AE-4481-8D0E-2A660B6D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CBD58-04EC-427F-851B-7F7AFDB8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AC21B-3DBD-458E-8F41-45243CB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09AC5-9CAC-49D2-89BE-770A6D4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58CBF-F3E8-4FAC-AF3E-E6286422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4C884-45D3-4D0D-8126-ED665153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B94B5-C456-460B-B87B-E6F8F41C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69915-CA2D-4FC6-99E3-E828B50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3DCED-16EF-4DA3-9EF7-14D1C54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70F-C3FF-447A-8920-47B19652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00378-D553-488E-9BF2-BC3C47D3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15E10-E5C5-4AC9-A486-CC8A8FDE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4AF2B-BD7D-4342-8163-70EEDC7E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B5FBE-88A9-4848-9D59-320C48B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9B2FA-EC35-4A88-9F27-B2BFBE7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E2652-6897-479D-A86A-D32947D2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A22CF-AC02-4270-87BC-08F1397C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F6609-7411-4BFE-9680-68CEC493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9026C-16F2-401A-9636-3EB679A9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B0D33-9FE5-410C-ABAD-260998C1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C20E-9A7C-464E-80F3-E9D3B740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30D08-E8CC-43E4-965B-2D3DF32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EB77A-F4E5-416F-97E0-B89ABAD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D95C6-51F2-47AB-9069-EB03411B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2C754-C2B2-467F-9C91-C2D00319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E63D0-33D8-43E0-8E6F-7D1FE4ED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69AA2-5592-485E-AF66-375E758E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224B5-394E-4C40-95EC-9BED4F2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A98F6-3921-4B05-A5DE-FAAEEB4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1E074-4B16-4583-885F-03B1E46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36750-FE76-4F76-8601-C147B7E2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7E52-5CA5-4FC3-865B-5CF3651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4CC5C-E520-4F6D-9E29-E4B79D4C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53EE6-8B4E-4417-AEFD-4F44437C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3ACF4-9051-4ABC-93D6-4D140EBD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3760E-08FE-4D55-9802-16C2270B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E9833-EA4A-442F-8DEA-AD77CBDB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4404F-ABDF-4716-8A09-8EC9E4FF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2A266-5248-4B50-A647-742E578F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15CCD-CF41-48EC-B485-888383D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337B0-237A-4128-9FE6-BA873C8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4F243-31FB-43D5-B435-FD655CA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9F04-4C03-4FFF-A892-F0787C8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1A0E4-CFCC-405B-AF0A-E1B3B5B6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E22B1-76F4-47C5-9E13-4A8B2FCD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2E486-F4E1-4039-8051-0D498771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09572-08F0-4661-8400-C8218041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C3412-5F4E-47ED-912A-B3D64AEC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957BF-C29D-4802-9400-34CC418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FD96A-368B-4D24-84EA-C3385EF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D3E84-85C5-4C5C-A6D4-43B85C5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A4D37-AED1-482F-AEEF-F1F84AB0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425B5-9915-4E9A-A584-5D6E2352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FC0-0DB0-43AE-B051-8CA6F9E5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79FA-16FE-4A61-9383-68A0905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0FF38-589E-4062-BCDB-743DB58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5A7B2-43C5-49AC-BFA7-11B1404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3DB46-4A09-44FE-A826-C35AE220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821CD-52F6-4846-AF73-8E69EA31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33327-B86D-4586-8D65-2361827C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CF223-E0FD-46B7-BA15-993ADF98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28EC8-54F2-48A2-A7D3-159A8052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9F866-E622-4F46-B43A-17DCF2FB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01B53-26F2-4BBE-ABD3-30D131B3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57F36-7041-4723-9ADD-2F383B77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3481-4C84-41BE-B9E3-F230622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DF19F-593E-4B9F-B58F-BBC22466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B4D8A-ED99-4B0B-B007-8796527E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002F4-33DE-4ABC-B3AB-5F080F4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5D5C5-48CD-4EBF-8895-278AE10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B5EFB-0244-4A6A-8A20-A6F8265A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ADF32-BD90-45F1-9481-698842A5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E503B-5CDB-4FAE-83FF-D3C77BDC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CFBDE-7E14-47F8-A009-73F95C9D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7FD71-379B-4A25-8299-804ACE46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5F0CE-3B6F-4B57-9CB5-4041303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3E4D-70FB-4D30-B29F-02A48DC1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8D47C-51DA-407C-BFC7-1246C32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0B697-2710-4ABC-A250-C32BC26C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66668-1FEF-462E-919B-0E88C06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F84B9-CEB6-4621-9AA9-CE10155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D6013-5933-4972-8F51-0D7A124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05188-6175-4BE4-9E68-5668396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72943-D58C-4863-8C8F-A8FD70C6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DF7D3-65BA-4492-9F1F-255A157B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D75C8-3F64-45E8-ADCE-05E3C0AF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23536-FEA7-4C49-AA9B-A56A5F1C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480-2357-4963-BC5F-7A1EE3E5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59EED-19D4-408D-8AC8-42F0FB33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92E66-0862-4D15-BAFA-11E17644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AE85F-24D7-4805-8E5E-1C55C52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25DBC2-0722-458A-BC0B-A01E9AD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D8279-7FF2-4FFB-BA12-43053EC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EE414-967D-4287-90F8-D913CE5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EB52D-4414-435C-95DA-8E85E3E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DCADA-248A-4773-8102-3B7B3C4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80017-A795-490A-8ECB-187D1417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422ED-A977-470D-BCE5-FEEB3B3E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5AD6-B853-452B-A16F-8C13D454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A3F72-D762-4F7E-B768-980BAECF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F16FD-3B9E-47E3-9F0D-E708801F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E2072-822E-4236-BF5B-B9BC1B8B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8DF50-1709-462B-8FA5-7360163C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1372E4-9509-47C7-99A3-000DFED6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E6194-E838-4E03-B5FE-47BA7C5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A9A4E-05A5-441E-B3AF-5DAF689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15BE8-DEC1-4128-A0A3-C5E129E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1CD4CB-FC54-406B-86DB-EAD6E518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A8470-424C-46A1-B4DC-E453A323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29DC-2767-41AC-ACE4-D56305B7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16A52-5AAE-4F1B-82D6-7E0494A0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6D82D-7EFF-410A-92FE-2562DB56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522A6-EC05-42CC-A558-E1A91B43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2D4A-C48A-49BD-B892-D2574617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3384-DA82-4B48-AC03-8379DA6B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EC3E-B6CD-49A6-99CB-AE12321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90C2-E04C-42A9-8B7F-6A1C4291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66A-E25A-491A-930C-1D2650C1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7E6C-8D64-4D3D-AAC4-AB16FBCD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07CF-B2DC-474C-9877-F6A07DC3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62A0-56FA-428B-8218-01996C0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595A-6042-406F-AC47-DD2D822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BAB9-23B4-4BE9-B659-CD5C44A4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7863-3D98-4AFB-8759-A75DF563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F2DB-33CD-4034-BA36-2F720E2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78F9-AFDB-4D93-BEAA-B7F37256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86E0-7207-4976-B059-A3D87435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A8EB-067A-4D14-9710-4F51A2F1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61A-19EE-4AFB-BEF9-86B46FC4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2CED-91E1-4294-9691-64CC0396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7D0A-7F40-4382-8433-D1B6F5AA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0DB8-70FD-4E6C-805E-B23C0C02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9A10-8071-40E2-998F-48401A3E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5140-82D7-44A5-8E66-DDA5281D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0872-66BA-45C9-82E5-4CD138E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8D00-9B68-4F10-93DE-97C19723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3F91-73A4-4097-99E5-014FED40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6FB4-E055-43D1-8FF2-79C4B0C1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A5FDB-C7F2-443D-938E-E789D2F1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80D-4CE1-40A1-8CBD-41F18376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A8F4-8BC9-440A-87CF-EF81F076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785C2-8CD0-4C66-AC78-4FD36BE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3FCCB-3533-4530-9A63-F6D63413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4CD7-764E-462A-9037-E3996EB4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68FAB-9675-488D-9EF7-F9D04982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523E-F3E7-492B-ABE5-903BCF54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5EF9-0AF2-47B2-82A4-F2B78034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CB72-4EE5-4266-9033-3BCD73A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BBE8-E96C-4895-A0C6-92E2D8CA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4424-D4C6-42BB-8A8A-27EF110E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424-6CBC-4E4C-8F62-5E12564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3D51-A292-40B1-A92B-FC0B22E8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C37B7-E345-44C9-A79A-053A8A00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A58FE-A155-44E7-8DAC-FFA4A3AA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3C5E-B1D0-41AF-9E29-C1F48C55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17028-9251-435B-8566-735D0A7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9306-860E-4CFF-8637-87C9C469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397E-1DD6-44B9-AD64-B6115281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C925-0C61-4A9B-92F8-8B4D1D0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73654-8DC8-4477-9CC6-40F7921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9C5F-CB31-4B46-9C4A-94C46FF7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136-EBF0-40A3-9746-55828E0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F6C1-F642-47BE-8A11-E3F04DF0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18D7-F763-4E28-A4BB-078B276A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F8DA-69B6-47C4-B012-78DEAB03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570B4-E640-4841-A23C-4FFFC9CB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7109-A97C-4453-B3A4-C5A84572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715A8-3F34-401F-87E8-61F6078A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0FAF-6D40-444F-941B-5642F1D5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4170-42AF-47D6-84BD-96DBC6B2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655B-7C8B-43BC-B84A-4B631AF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98FBD-A008-4B10-B42B-E975A4B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F75-1385-447C-A0C6-7ECE367B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24C5-AA6C-4FE0-9C29-19265F2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B1C7-FF40-4546-A288-5E7B2DD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2FE3-F274-4931-9B42-02B44FCD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BB25-48C2-4091-AC55-C32A938B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A095-9E13-4E58-B62E-1C655A6A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72201-FCF1-4F22-B956-558142D2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9812B-76A4-4ED3-A598-7C9D5E8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23579-F6CF-4D8E-9876-64B72824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A258B-F530-4B42-97E9-BD538A66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34AF-820A-4E73-A98B-F0CD7832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652-938F-498D-8384-968E6C5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4ABD-F81A-44C8-BDC7-E8744407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D052E-7CDE-4070-A0DC-1CB7AC9A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64FA-500E-48A4-8AE2-2BFBDE2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DCF85-CBFF-4D5E-929C-5392781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AE62-6D64-42BE-8CC0-F4ECD85C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43D36-AE2B-4FBD-B048-F99B60FB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1EC4-537E-48AB-851A-641F5ABA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1C09E-0239-4A41-9C92-4F6D6CE2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ECDAC-02C2-48A7-82F2-A0C9101E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7E142-B9BD-466B-A5BF-D0EBF2F0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8A7-5558-4CF9-A263-321909E7E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2AD1-1703-42B7-8A14-D6F6C1CA3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41C-E318-4B3F-A78C-9C6E5042D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9EC0-CE55-4773-AB35-51F3A1CD5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8F0-0A86-4FDE-A799-8F9CB2C875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1D35-24DE-467F-AB37-81E7DEE6B3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1D3-0E0A-4CF5-9DF3-FABD98279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247-6F55-4B3C-B817-05D167FFF6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9F26-AF50-49D1-99F1-96DE1810F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9E21-553F-4704-BBE5-A59133FA4E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4FD-9DB3-419F-81DC-889E1A14A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2979-DC1B-4263-B5E2-13D5CA8C9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23FE-456E-4F36-8105-48129DF00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7C3C-9BD3-48BC-824C-B835BF742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343-9118-4C18-9523-F62239C5B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F7B9-DF2F-4F0B-A0B1-FFB5550B1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432-08E2-475D-888C-4DB259FBA0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12E-6732-425C-B286-4981D8C02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E28-DB2C-4492-B33E-9057DC5C1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F12-0726-4CBD-A5F9-1382F00DF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5A6B-9752-4298-99D4-D974AEEBE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1D6E-5516-4863-AF7D-1A23A4BE67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6759-2686-4684-A698-16623B4C5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894-3496-41A4-B3C8-28BB5D257F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1447-FE4A-45E2-B819-95F6E7341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27F7-2406-4885-A398-DD7D8EEC0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EAD-DCC3-4AC6-AD49-E11B54658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2514-BC05-45DD-8D23-68E731B13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ECF-11DF-47CF-AA60-5D4D7C37F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2617-B624-4540-BB33-2618693AE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A4AC-DEF4-4446-97C0-1AF8AEDC4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6798-9569-4FB8-8A49-88F30DD304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C954-9756-4363-8257-0A0EFFF25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FFFD-BA8D-4586-9C97-1502E42AC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4163-B72C-47C4-8508-F50B18DCA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3D2C-8507-4BF0-B0BC-7064D074D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F4BA-84B0-4ED9-9540-DB885C92E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3C29-A035-423C-806D-9F296226D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937-617A-4E38-AA1F-790D8DC1EF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D19C-2F1A-4F34-8A20-E7A7C804A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52600" y="288144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9600" y="1222200"/>
            <a:ext cx="9063000" cy="16988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90360" y="3032280"/>
            <a:ext cx="9012240" cy="3246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987640" y="260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78800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51672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31708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1187280" y="447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4211640" y="447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431200" y="447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2340000" y="591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5364000" y="5921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7236000" y="5935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92240" y="1136520"/>
            <a:ext cx="8246880" cy="16956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264960" y="3317760"/>
            <a:ext cx="7913880" cy="2409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5349960" y="2521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971640" y="2506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7596360" y="25066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3203640" y="2522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971640" y="3745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971640" y="4164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971640" y="4595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97164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23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